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E03-80DE-4C7D-9A7B-A8453380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049-F5D1-465F-AE69-B36698D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951-9B11-49F1-B887-F171C49A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7A5-F0C3-42C5-AE2B-0EFABFE6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F068-8F79-4945-856E-D75E36AC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2EF4-FD24-4B6B-B2D6-4EE4E25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A8D-3D56-4D00-84E0-18F717A2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D002-CF79-44A1-955E-EFCB23A7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E2B-0B1A-425B-BFE0-30F312CC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6C6B-7EB1-4A5D-9CF3-CCE50CDD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B4D-06D7-431E-B8E7-98E0D3B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B52-9C6B-4968-9531-195642A2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60C-8A60-4E6E-BED5-B12930E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EA36-D48E-44A9-B3AF-2FEBBF2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9492-BDFD-423F-9357-E9AE05D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068-AEF7-4245-AE43-75F73247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AC56-26A2-4CC7-ACEC-3C877537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98C-AF20-4D86-9EE9-8890AF6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F89-4E1C-4E03-8581-014D1AF9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BE8-86A7-4971-8630-42BDD9B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AC79-0663-48FD-97F5-E29FC31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0F2-CDFB-4793-B64B-EFC5796A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471-231A-4A81-9911-906210F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6C5-FADC-454A-A18F-8DE33CB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9FC-58E4-4B7A-9AC8-70F2D047BF69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80808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39D1-85C9-45B1-AFA6-F2C5D896D688}" type="slidenum">
              <a:rPr b="0" lang="pt-BR" sz="1400" spc="-1" strike="noStrike">
                <a:solidFill>
                  <a:srgbClr val="080808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sonsantos.files.wordpress.com/2007/10/windowslivewriterdaswirdweb30-a579networks3-thumb1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V&#205;DEOS/Wikis%20in%20Plain%20English.flv" TargetMode="External"/><Relationship Id="rId3" Type="http://schemas.openxmlformats.org/officeDocument/2006/relationships/hyperlink" Target="file:///F:/V&#205;DEOS/Wikis%20in%20Plain%20English.flv" TargetMode="External"/><Relationship Id="rId4" Type="http://schemas.openxmlformats.org/officeDocument/2006/relationships/hyperlink" Target="file:///F:/V&#205;DEOS/Wikis%20in%20Plain%20English.flv" TargetMode="External"/><Relationship Id="rId5" Type="http://schemas.openxmlformats.org/officeDocument/2006/relationships/hyperlink" Target="file:///F:/V&#205;DEOS/Wikis%20in%20Plain%20English.flv" TargetMode="External"/><Relationship Id="rId6" Type="http://schemas.openxmlformats.org/officeDocument/2006/relationships/hyperlink" Target="file:///F:/V&#205;DEOS/Wikis%20in%20Plain%20English.flv" TargetMode="External"/><Relationship Id="rId7" Type="http://schemas.openxmlformats.org/officeDocument/2006/relationships/hyperlink" Target="file:///F:/V&#205;DEOS/Wikis%20in%20Plain%20English.flv" TargetMode="External"/><Relationship Id="rId8" Type="http://schemas.openxmlformats.org/officeDocument/2006/relationships/hyperlink" Target="file:///F:/V&#205;DEOS/Wikis%20in%20Plain%20English.flv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teraturainglesaii.wikispaces.com/" TargetMode="External"/><Relationship Id="rId3" Type="http://schemas.openxmlformats.org/officeDocument/2006/relationships/hyperlink" Target="http://hiperhistoria.wikispaces.com/Colaborative+History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V&#205;DEOS/Aprendre%20a%20aprendre.flv" TargetMode="External"/><Relationship Id="rId3" Type="http://schemas.openxmlformats.org/officeDocument/2006/relationships/hyperlink" Target="file:///F:/V&#205;DEOS/Aprendre%20a%20aprendre.flv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Tahoma"/>
              </a:rPr>
              <a:t>O WIKI como ferramenta para construção de Portfólio Reflexivo online </a:t>
            </a:r>
            <a:br>
              <a:rPr sz="2400"/>
            </a:b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Profª. MSc. Azenaide A. S. Vieir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Profª. Carla Varel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maior WIKI do mund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6264360" cy="430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59280" y="5877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www.wikipedia.org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BLOG OU WIKI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3500280"/>
            <a:ext cx="3600360" cy="2222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059280" y="5589720"/>
            <a:ext cx="1223640" cy="904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68360" y="2852640"/>
            <a:ext cx="2581560" cy="69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508720" y="1628640"/>
            <a:ext cx="4140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BLOGS</a:t>
            </a: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sã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ronológic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Focam o momen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Mais ágei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Pessoais e opinativ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WIKIS</a:t>
            </a: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são: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Referenciais e cumulativ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Focados em aperfeiçoamento contínu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Enciclopédicos e neutros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WIKI NA EDUCAÇÃO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professor medeia, os alunos escrevem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saber é cumulativ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está sempre em construçã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nunca se esgota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Pode ser passado de uma turma a outra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 trabalho é colaborativ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é por definição coletiv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tem foco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tem divisão de tarefas e responsabilidades;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300720" y="3645000"/>
            <a:ext cx="1873440" cy="14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Papel social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O wiki é feito para todo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Ultrapassa a sala de au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ode ser uma vitrine da esco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EM SUMA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Wikis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 in 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4"/>
              </a:rPr>
              <a:t>Plain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5"/>
              </a:rPr>
              <a:t> 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6"/>
              </a:rPr>
              <a:t>English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7"/>
              </a:rPr>
              <a:t>.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8"/>
              </a:rPr>
              <a:t>flv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WIKI EM SALA DE AUL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literaturainglesaii.wikispac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http://hiperhistoria.wikispaces.com/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GORA VAMOS POR A MÃO NA MASSA! OU MELHOR, NO WIKI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lguns conceito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O que é PORTFÓLIO?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(FARIAS, 2003, p. 28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Trata-se de um porta-fólio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Documento formal que apresenta as experiências de aprendizagem fora da escol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Um material acumulado pelo desenvolvimento de um conjunto de ações de sucesso voltado ao melhor resultado de uma pesquisa ou de um trabalho;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80808"/>
                </a:solidFill>
                <a:latin typeface="Tahoma"/>
              </a:rPr>
              <a:t>O que é um PORTFÓLIO REFLEXIVO?</a:t>
            </a:r>
            <a:br>
              <a:rPr sz="4000"/>
            </a:b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É uma coletânea de documentos ligada a um texto seguindo uma lógica reflexiva.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São coleções de informações importantes vindas de diversas fontes: livros, revistas, internet, jornais, entre outros, fundamentados em anotações escolares diári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É uma estratégia, um diário de aprendizagem onde registramos constantemente nossas descobert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QUAL O OBJETIVO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80808"/>
                </a:solidFill>
                <a:latin typeface="Tahoma"/>
              </a:rPr>
              <a:t>objetiva fazer uma reflexão crítica sobre o processo, visando a melhoria de competências, atitudes ou conhecimento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44620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-17172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t-BR" sz="4000" spc="-1" strike="noStrike">
                <a:solidFill>
                  <a:srgbClr val="080808"/>
                </a:solidFill>
                <a:latin typeface="Tahoma"/>
              </a:rPr>
              <a:t>Por que usar o PORTFÓLIO REFLEXIVO na educação?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Aprender a aprender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Levantar hipótese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Buscar alternativas e soluções possíveis para resolver problemas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Levar o aluno ao universo da pesquisa;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Propiciar o registro, análise e acompanhamento das ações cotidianas no diário de aprendizag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80808"/>
                </a:solidFill>
                <a:latin typeface="Tahoma"/>
              </a:rPr>
              <a:t>CONTRIBUIÇÕES</a:t>
            </a:r>
            <a:endParaRPr b="0" lang="en-US" sz="4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Traz uma abordagem </a:t>
            </a: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CONSTRUTIVISTA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de ensino (professor) e aprendizagem (aluno), com foco na </a:t>
            </a: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APRENDIZAG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VÍDEOS\Aprender a aprender.</a:t>
            </a:r>
            <a:r>
              <a:rPr b="0" lang="pt-BR" sz="32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flv</a:t>
            </a:r>
            <a:r>
              <a:rPr b="0" lang="pt-BR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Antes de falar de WIKI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80808"/>
                </a:solidFill>
                <a:latin typeface="Tahoma"/>
              </a:rPr>
              <a:t>Panorama histórico da WEB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4602240" cy="494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63640" y="1817640"/>
            <a:ext cx="22320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 para técnico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 para grandes instituiçõe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Coisas para poucos;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Relação unidirecional entre autor e seu públic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Eu falo, você entende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que é web 2.0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76360" y="1773360"/>
            <a:ext cx="4319640" cy="3484440"/>
            <a:chOff x="1476360" y="1773360"/>
            <a:chExt cx="4319640" cy="348444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476360" y="1773360"/>
              <a:ext cx="4319640" cy="34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476360" y="1773360"/>
              <a:ext cx="4319640" cy="34844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940360" y="1773360"/>
            <a:ext cx="3419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Não é uma tecnologia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um conceit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uma visão de mund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É criação bidirecional de conteúdo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O público passa a ser co-autor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O WIKI traz um conceito de web 2.0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80808"/>
                </a:solidFill>
                <a:latin typeface="Tahoma"/>
              </a:rPr>
              <a:t>O que é WIKI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2946240" cy="2832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390920" y="1341360"/>
            <a:ext cx="475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80808"/>
                </a:solidFill>
                <a:latin typeface="Verdana"/>
                <a:ea typeface="Arial"/>
              </a:rPr>
              <a:t> </a:t>
            </a: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Do idioma havaiano: wiki wiki, muito rápido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 </a:t>
            </a: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Ferramenta de publicação coletiva na Internet;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Colaboração + revisão + simplicidade 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8080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80808"/>
                </a:solidFill>
                <a:latin typeface="Verdana"/>
                <a:ea typeface="Arial"/>
              </a:rPr>
              <a:t>Novo paradigma ao PORTFÓLIO REFLEXIVO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zenaide (UEMS)/Carla (NTE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23:15:33Z</dcterms:created>
  <dc:creator>User</dc:creator>
  <dc:description/>
  <cp:keywords/>
  <dc:language>en-US</dc:language>
  <cp:lastModifiedBy>Luciana</cp:lastModifiedBy>
  <dcterms:modified xsi:type="dcterms:W3CDTF">2008-06-16T23:03:43Z</dcterms:modified>
  <cp:revision>8</cp:revision>
  <dc:subject/>
  <dc:title>O WIKI como ferramenta para construção de Portfólio Reflexivo onlin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6</vt:lpwstr>
  </property>
</Properties>
</file>